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976A-5D3E-4313-ABC8-7449391A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9AB3-1849-4792-A752-9C2D0FAB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19D9-4A2D-4D41-A1C3-937B048D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069A-C6E8-45BA-8110-A2AA6AA0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8DD9-AD5E-4F57-9FCD-44FFCE52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BA9-2D68-4323-8F51-A2D76074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97EC-DC31-4270-8644-20EE4FC6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A90A-E004-4A1E-93BB-FFD8E61B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3A8F-D976-4472-ACAE-691A02C9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1481-6651-4CE5-8285-C631DEAC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9B56-B786-4C6C-ACB7-4AA8FBE6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3C1B-6420-439D-82DC-23AECF56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D778-840B-4CBB-AACC-65623DD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A43B-1486-4326-AF69-31FCA803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F4FF-5303-429C-898E-8D482133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26E9-B5B3-4314-8044-73ACE5AD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B325-6984-4D21-9282-D5EE1376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4E47-2931-4719-BF94-F2769DF5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D862-5B3B-45D5-8639-E379026E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6854-5DDD-47D8-8DF2-BFD3D949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54AF-220D-4502-9036-340D1BC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0864-E08A-4332-BBC3-459C9A8A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71B1-B54E-4BFE-A24C-EA05CCB9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EDA1-108F-49F6-B1A3-693E3417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269B-8264-4BE4-91F9-26BABA01D9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5AAE-CF2C-4666-8BE9-09ADF38B52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32 and 33: The 1920’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19-192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-War Econom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ying stocks “on margin”- little down pay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debt skyrocke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retary of Treasury=Andrew Mell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220px-AWMellon"/>
          <p:cNvPicPr/>
          <p:nvPr/>
        </p:nvPicPr>
        <p:blipFill>
          <a:blip r:embed="rId1"/>
          <a:stretch/>
        </p:blipFill>
        <p:spPr>
          <a:xfrm>
            <a:off x="3124080" y="3505320"/>
            <a:ext cx="2762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ftermath of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bor deprived of friendly government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merican Legion formed to demand veterans’ benef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djusted Compensation Act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ave every former soldier a paid-up insurance policy due in twenty yea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without Burd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armament” Conference- 1920-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major naval powers except Bolshevik Russ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val disarma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 proposed 10 year holiday on building battleshi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ve-Power Naval Trea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ur-Power Trea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ne-Power Trea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llogg-Briand P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(no wa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wash_treaty"/>
          <p:cNvPicPr/>
          <p:nvPr/>
        </p:nvPicPr>
        <p:blipFill>
          <a:blip r:embed="rId1"/>
          <a:stretch/>
        </p:blipFill>
        <p:spPr>
          <a:xfrm>
            <a:off x="5181480" y="4114800"/>
            <a:ext cx="3581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gh Tari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rdney-McCumber Tariff Law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ised tariffs to 38.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es on farm produce incre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ised the tariffs much more than they were lowered (Harding &amp; Coolidg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ec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and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apot Dome Scandal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cretary of the interior convinces secretary of navy to transfer these valuable oil reserves to Interior Depart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(Fall) then received a bribe of $100,000 to lease the lands to oil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orney General Daugherty forced to resign after investigations of illegal sale of pardons &amp; liquor perm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ding died in 1923 of pneumon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topics19and202"/>
          <p:cNvPicPr/>
          <p:nvPr/>
        </p:nvPicPr>
        <p:blipFill>
          <a:blip r:embed="rId1"/>
          <a:stretch/>
        </p:blipFill>
        <p:spPr>
          <a:xfrm>
            <a:off x="1295280" y="762120"/>
            <a:ext cx="6324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strated Farm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m-and-bust cy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ace brought end to government-guaranteed high prices &amp; massive purchases by other 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hines threatened far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soline-engine tract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ampening surplu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ering depression in farming distri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image017"/>
          <p:cNvPicPr/>
          <p:nvPr/>
        </p:nvPicPr>
        <p:blipFill>
          <a:blip r:embed="rId1"/>
          <a:stretch/>
        </p:blipFill>
        <p:spPr>
          <a:xfrm>
            <a:off x="5867280" y="3276720"/>
            <a:ext cx="304812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lvin Coolidge as Presid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ystallization of the common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ifty &amp; frugal na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mpathized w/ Andrew Mell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 efforts to reduce bo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ax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b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ve moral boost to Harding reg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5" descr="calvincoolidge"/>
          <p:cNvPicPr/>
          <p:nvPr/>
        </p:nvPicPr>
        <p:blipFill>
          <a:blip r:embed="rId1"/>
          <a:stretch/>
        </p:blipFill>
        <p:spPr>
          <a:xfrm>
            <a:off x="3581280" y="4653000"/>
            <a:ext cx="1973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5" descr="ch27_06"/>
          <p:cNvPicPr/>
          <p:nvPr/>
        </p:nvPicPr>
        <p:blipFill>
          <a:blip r:embed="rId1"/>
          <a:stretch/>
        </p:blipFill>
        <p:spPr>
          <a:xfrm>
            <a:off x="1447920" y="121932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2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s: Calvin Cooli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ep Cool and Keep Coolidge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lent Cal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s: John W. Dav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lit party (wets and drys, etc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gressive: Robert “Fighting Bob” La Follet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rt from farm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vernment regulation of railroads &amp; relief for farm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olidge is elected Presid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5" descr="220px-Calvin_Coolidge-Garo"/>
          <p:cNvPicPr/>
          <p:nvPr/>
        </p:nvPicPr>
        <p:blipFill>
          <a:blip r:embed="rId1"/>
          <a:stretch/>
        </p:blipFill>
        <p:spPr>
          <a:xfrm>
            <a:off x="6324480" y="1143000"/>
            <a:ext cx="18813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d Sc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lshevik Revolu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munist Party in Amer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ve to root out radic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. Mitchell Palmer= “Fighting Quaker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lmer Rai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cco &amp; Vanzet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victed of murder in 1921 of a Massachusetts paymaster &amp; his gua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ry &amp; judge biased b/c they were Italians, atheists &amp; anarchis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ecuted in 1927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Sacco_e_Vanzetti"/>
          <p:cNvPicPr/>
          <p:nvPr/>
        </p:nvPicPr>
        <p:blipFill>
          <a:blip r:embed="rId1"/>
          <a:stretch/>
        </p:blipFill>
        <p:spPr>
          <a:xfrm>
            <a:off x="5257800" y="5081760"/>
            <a:ext cx="2762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1924_Electoral_Map"/>
          <p:cNvPicPr/>
          <p:nvPr/>
        </p:nvPicPr>
        <p:blipFill>
          <a:blip r:embed="rId1"/>
          <a:stretch/>
        </p:blipFill>
        <p:spPr>
          <a:xfrm>
            <a:off x="609480" y="1371600"/>
            <a:ext cx="78328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olidge Foreign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oved troops from Dominican Republ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t troops back in Nicaragu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sue of international deb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in debt, had loaned $10 billion to foreign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ies did not think it was fair that they had to repay deb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guments for and agains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raveling Debt Kn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&amp; British demanded that Germany pay repa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awes Plan of 19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cheduled German reparation payments &amp; opened way for more American lo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rmany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nce &amp; Britai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flowing well of American cre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2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vin Coolidge chooses not to r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: Herbert Hoo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o but Hoover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lf-made milliona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: Alfred E. Smith (NY governo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rted repeal of Prohibi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man Cathol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dio factors into campaigning for first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over triumphs in a landslid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overcrats” rebelled against Al Smith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5" descr="1928_Electoral_Map"/>
          <p:cNvPicPr/>
          <p:nvPr/>
        </p:nvPicPr>
        <p:blipFill>
          <a:blip r:embed="rId1"/>
          <a:stretch/>
        </p:blipFill>
        <p:spPr>
          <a:xfrm>
            <a:off x="685800" y="1676520"/>
            <a:ext cx="7620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over’s First Mo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moted self he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gricultural Marketing A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designed to help farmers help themselves through producers’ coopera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tton Stabilizing Corpor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goal to bolster prices by buying up surplu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over had promised to address farmer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wley-Smoot Tari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Full%20page--Sacco%20and%20Vanzetti--Aug%2013,%201927--p"/>
          <p:cNvPicPr/>
          <p:nvPr/>
        </p:nvPicPr>
        <p:blipFill>
          <a:blip r:embed="rId1"/>
          <a:stretch/>
        </p:blipFill>
        <p:spPr>
          <a:xfrm>
            <a:off x="2819520" y="380880"/>
            <a:ext cx="4235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KK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mbles nativist movements of 1850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foreign, anti-Catholic, antiblack, anti-Jewish, anti-Communist, et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west &amp; “Bible Bel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ign of hooded terro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ifestation of the intolerance and prejudice during the 1920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d to immigration policy of 1920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ngster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b wars in Chica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 Capone- “Public Enemy #1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. Valentine’s Day Massacre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ven members of Capone’s rival gang dismemb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ed crime became one of nation’s largest busi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ng kidnapped &amp; murdered Charles Lindbergh’s 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5" descr="al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ope’s Monkey Tr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hn T. Scopes was indicted for teaching evolution in a Tennessee high scho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wyer: Clarence Darr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secution: William Jennings Bry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opes found guilty &amp; fined $1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damentalism: emphasis on the b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n only a hollow victo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lture of the 192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5" descr="flappers"/>
          <p:cNvPicPr/>
          <p:nvPr/>
        </p:nvPicPr>
        <p:blipFill>
          <a:blip r:embed="rId1"/>
          <a:stretch/>
        </p:blipFill>
        <p:spPr>
          <a:xfrm>
            <a:off x="228600" y="1617840"/>
            <a:ext cx="4191120" cy="3576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Armstrong_Poster"/>
          <p:cNvPicPr/>
          <p:nvPr/>
        </p:nvPicPr>
        <p:blipFill>
          <a:blip r:embed="rId2"/>
          <a:stretch/>
        </p:blipFill>
        <p:spPr>
          <a:xfrm>
            <a:off x="4495680" y="1676520"/>
            <a:ext cx="276084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lapper"/>
          <p:cNvPicPr/>
          <p:nvPr/>
        </p:nvPicPr>
        <p:blipFill>
          <a:blip r:embed="rId3"/>
          <a:stretch/>
        </p:blipFill>
        <p:spPr>
          <a:xfrm>
            <a:off x="6829560" y="3621240"/>
            <a:ext cx="23144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ltural Libe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thor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. Scott Fitzgerald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Great Gats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nest Hemingw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Sun Also Ri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st Gene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arewell to A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lliam Faulkn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s I Lay D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THE-GREAT-GATSBY"/>
          <p:cNvPicPr/>
          <p:nvPr/>
        </p:nvPicPr>
        <p:blipFill>
          <a:blip r:embed="rId1"/>
          <a:stretch/>
        </p:blipFill>
        <p:spPr>
          <a:xfrm>
            <a:off x="5562720" y="1676520"/>
            <a:ext cx="300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ren G. Harding as Presid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dkins v. Children’s Hospi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reme Court (Taft) reversed its’ reasoning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uller v. Oreg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men now had the right to vote, so they were equals of 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ot of progressive legislation rever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porations could relax- antitrust laws were often igno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g- business bi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t-rich quick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220px-Warren_G_Harding-Harris_%26_Ewing"/>
          <p:cNvPicPr/>
          <p:nvPr/>
        </p:nvPicPr>
        <p:blipFill>
          <a:blip r:embed="rId1"/>
          <a:stretch/>
        </p:blipFill>
        <p:spPr>
          <a:xfrm>
            <a:off x="7010280" y="4924440"/>
            <a:ext cx="14223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4:21:42Z</dcterms:created>
  <dc:creator>emily.johnson</dc:creator>
  <dc:description/>
  <dc:language>en-US</dc:language>
  <cp:lastModifiedBy>Emily Johnson</cp:lastModifiedBy>
  <dcterms:modified xsi:type="dcterms:W3CDTF">2013-03-06T01:28:53Z</dcterms:modified>
  <cp:revision>8</cp:revision>
  <dc:subject/>
  <dc:title>Chapter 32 and 33: The 1920’s </dc:title>
</cp:coreProperties>
</file>